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993-5D62-4D37-84F6-1F8F9697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48E-E764-4003-89D0-E81F73DC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8B7-6C8D-4E12-9F51-D83F4A7A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BA8-4E56-4E1C-95D5-D25F9BB2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876C-217C-456D-8E1A-2DE6F81A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FA86-EC06-43FC-8981-7B210DEE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6A13-436C-4AB2-B3FA-5552FDC8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8BAF-28DB-4193-9F8B-22311409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CF3C-BC5A-4512-83F5-373B075A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7653-A4C7-4BF5-AD54-EA12657B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3C5D-CDB9-4CB8-A2AC-7FF10F9E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AAB-55C8-47B7-8078-C53558A7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C4FA-44B2-4604-8BA6-6DC132C5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9904-050B-48DD-847D-BFF94E80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7CB9-76D0-4553-8F73-C9CB9F40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EBA8-02BF-4968-9AD9-5DF3703C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26B5-E12B-4666-9005-024EACB6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8B3-5ED5-4145-AE3E-C8D00BEF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F33-8A8E-49BF-A7E8-84F88849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675-7E7C-4370-B5CE-8F52BA08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5E1-F20D-4114-8D62-FF076255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C5D-EC0A-4407-8C34-B050A86B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A6E-4212-4637-B63F-2979155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D29-914E-4D21-926B-F08F3E05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6A75-B030-4A49-9103-9E9F89B00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FC76-8A35-4181-8A99-BCF8AAEE8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deo Tit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ison M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2276-7E0A-4AB1-BCFB-05652E20EA6A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members will be informed about polar bears and there exist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vironment- Polar bears live in the north areas such as, Alaska, Canada, Russia, Norway, and Greenland. They DO NOT live in Antarctica. Penguins 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do they survive in the artic environment?- Polar bears love the artic climate, where winter tempatures reach to -50 degrees. They are covered by two layers of fur that help keep them warm. They also have a thick fat lay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ar Bear diet- Polar bears tend to feed on seals, which is the highest calorie food source possible. The females tend to hunt the smaller seals, and the males hunt the larger seal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many cubs can a female bear have?- A female polar bear can have up 1 to 3 cub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ators- The only predators polar bears have are humans and sometimes other polar bear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will your movie be special and differ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5:42:13Z</dcterms:created>
  <dc:creator>Mills Madison</dc:creator>
  <dc:description/>
  <dc:language>en-US</dc:language>
  <cp:lastModifiedBy>Student</cp:lastModifiedBy>
  <dcterms:modified xsi:type="dcterms:W3CDTF">2013-02-20T04:07:54Z</dcterms:modified>
  <cp:revision>40</cp:revision>
  <dc:subject/>
  <dc:title>The Pitch-Then-Plan Business Planning Template</dc:title>
</cp:coreProperties>
</file>